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403A-AC9C-4076-AB13-F5F11289D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DA5C-4900-4459-ADB7-C0E5D9A8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2229-FC2A-4966-8179-25BF8E9AD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14AD-2103-4912-BE21-D886048D7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FE9F-FF49-4E71-B5DE-A6FAC3E6D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9183-82BC-42A3-A1C6-E03E6B36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7E6C-C4EF-4287-9B28-3FCC0EDA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BE4D-6FA6-497B-9F7A-B116311A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C7B9-53A6-4612-B9C2-2B663838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8A22-0EF3-4DAD-8AE4-CC9306DB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EA51-4760-496F-A371-FEC69F1E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DDBA-A8FF-4EBA-8250-F806CB45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4B34-595B-4D34-B632-5741AA84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5BE5-8EF0-47DE-AA34-63D8B8E4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22BF-4B59-4066-9FC2-B6FC4505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26BF-F3FC-4168-92F9-385F0AC21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A9F9-CDDC-4409-8504-90BE5219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0DAB-DAA1-4322-90A7-3F88B213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3D99-5C73-4C6A-8DBB-3C0381BA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F1D4-524D-4000-9603-741D1BAD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A134-78E4-40DC-A66D-DCC811AE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0DD0-4407-4D6F-9E64-C60D5BFD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D6EF-3A1C-45CA-BFF0-3F46B435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68A8-79D9-4120-80F7-A62DB7EC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28600" y="334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6633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E2A8-F79F-48ED-BBF9-4CF47DA15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1054080" y="165240"/>
            <a:ext cx="7696080" cy="685800"/>
            <a:chOff x="1054080" y="165240"/>
            <a:chExt cx="7696080" cy="685800"/>
          </a:xfrm>
        </p:grpSpPr>
        <p:sp>
          <p:nvSpPr>
            <p:cNvPr id="7" name=""/>
            <p:cNvSpPr/>
            <p:nvPr/>
          </p:nvSpPr>
          <p:spPr>
            <a:xfrm>
              <a:off x="1054080" y="165240"/>
              <a:ext cx="7696080" cy="685800"/>
            </a:xfrm>
            <a:custGeom>
              <a:avLst/>
              <a:gdLst/>
              <a:ahLst/>
              <a:rect l="l" t="t" r="r" b="b"/>
              <a:pathLst>
                <a:path w="4848" h="432">
                  <a:moveTo>
                    <a:pt x="4848" y="48"/>
                  </a:moveTo>
                  <a:lnTo>
                    <a:pt x="4848" y="432"/>
                  </a:lnTo>
                  <a:cubicBezTo>
                    <a:pt x="4848" y="432"/>
                    <a:pt x="2424" y="432"/>
                    <a:pt x="0" y="432"/>
                  </a:cubicBezTo>
                  <a:cubicBezTo>
                    <a:pt x="161" y="345"/>
                    <a:pt x="169" y="61"/>
                    <a:pt x="0" y="0"/>
                  </a:cubicBezTo>
                  <a:cubicBezTo>
                    <a:pt x="2424" y="0"/>
                    <a:pt x="4848" y="0"/>
                    <a:pt x="4848" y="0"/>
                  </a:cubicBezTo>
                  <a:lnTo>
                    <a:pt x="4848" y="48"/>
                  </a:lnTo>
                  <a:close/>
                </a:path>
              </a:pathLst>
            </a:custGeom>
            <a:solidFill>
              <a:srgbClr val="b6ab82"/>
            </a:solidFill>
            <a:ln w="9360">
              <a:solidFill>
                <a:srgbClr val="cec7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" name=""/>
            <p:cNvGrpSpPr/>
            <p:nvPr/>
          </p:nvGrpSpPr>
          <p:grpSpPr>
            <a:xfrm>
              <a:off x="1897200" y="165240"/>
              <a:ext cx="6075360" cy="680400"/>
              <a:chOff x="1897200" y="165240"/>
              <a:chExt cx="6075360" cy="680400"/>
            </a:xfrm>
          </p:grpSpPr>
          <p:grpSp>
            <p:nvGrpSpPr>
              <p:cNvPr id="9" name=""/>
              <p:cNvGrpSpPr/>
              <p:nvPr/>
            </p:nvGrpSpPr>
            <p:grpSpPr>
              <a:xfrm>
                <a:off x="1897200" y="166680"/>
                <a:ext cx="3505320" cy="677160"/>
                <a:chOff x="1897200" y="166680"/>
                <a:chExt cx="3505320" cy="677160"/>
              </a:xfrm>
            </p:grpSpPr>
            <p:sp>
              <p:nvSpPr>
                <p:cNvPr id="10" name=""/>
                <p:cNvSpPr/>
                <p:nvPr/>
              </p:nvSpPr>
              <p:spPr>
                <a:xfrm>
                  <a:off x="3859560" y="788400"/>
                  <a:ext cx="11160" cy="12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3978360" y="831240"/>
                  <a:ext cx="14400" cy="12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3642120" y="761400"/>
                  <a:ext cx="20520" cy="2196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3399120" y="782280"/>
                  <a:ext cx="17280" cy="75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3326040" y="791640"/>
                  <a:ext cx="44640" cy="252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3279960" y="790200"/>
                  <a:ext cx="46080" cy="2484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3030840" y="651960"/>
                  <a:ext cx="239760" cy="14724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177000" y="642600"/>
                  <a:ext cx="106200" cy="10764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279960" y="691560"/>
                  <a:ext cx="74520" cy="205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276720" y="717120"/>
                  <a:ext cx="50760" cy="5364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3362760" y="686880"/>
                  <a:ext cx="25200" cy="3132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3368880" y="736200"/>
                  <a:ext cx="31680" cy="1548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3402360" y="712440"/>
                  <a:ext cx="41040" cy="2664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3413520" y="725040"/>
                  <a:ext cx="193680" cy="9648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3581640" y="734400"/>
                  <a:ext cx="52560" cy="4104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3692880" y="64728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3759480" y="710640"/>
                  <a:ext cx="17280" cy="1260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3545280" y="56772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3432600" y="63468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3308760" y="613800"/>
                  <a:ext cx="54000" cy="4248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291120" y="523440"/>
                  <a:ext cx="63360" cy="91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306960" y="590040"/>
                  <a:ext cx="22320" cy="2664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3262680" y="596520"/>
                  <a:ext cx="29880" cy="2664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4927680" y="559800"/>
                  <a:ext cx="474840" cy="28404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4299120" y="167760"/>
                  <a:ext cx="666720" cy="4489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094280" y="489960"/>
                  <a:ext cx="24120" cy="2520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4075200" y="480600"/>
                  <a:ext cx="25560" cy="1872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4845240" y="428040"/>
                  <a:ext cx="115920" cy="5220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4967640" y="470880"/>
                  <a:ext cx="93600" cy="2376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918320" y="483840"/>
                  <a:ext cx="38160" cy="216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892760" y="415440"/>
                  <a:ext cx="25560" cy="2808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5094720" y="501120"/>
                  <a:ext cx="29880" cy="4248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4556520" y="175680"/>
                  <a:ext cx="325440" cy="6480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4268880" y="174240"/>
                  <a:ext cx="301680" cy="3132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603960" y="220320"/>
                  <a:ext cx="28440" cy="1548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2826000" y="174240"/>
                  <a:ext cx="692280" cy="24084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3519720" y="166680"/>
                  <a:ext cx="31680" cy="86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3500640" y="239400"/>
                  <a:ext cx="93600" cy="5364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3400560" y="290160"/>
                  <a:ext cx="127080" cy="1137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84800" y="32328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773440" y="401040"/>
                  <a:ext cx="551160" cy="29988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2870280" y="607680"/>
                  <a:ext cx="30240" cy="45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3292560" y="451800"/>
                  <a:ext cx="28800" cy="378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3373560" y="433080"/>
                  <a:ext cx="14400" cy="1548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1897200" y="282240"/>
                  <a:ext cx="687600" cy="56160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2163960" y="493200"/>
                  <a:ext cx="258840" cy="35064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2619720" y="753480"/>
                  <a:ext cx="11160" cy="187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2605320" y="572760"/>
                  <a:ext cx="14400" cy="108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978200" y="350280"/>
                  <a:ext cx="39600" cy="1548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457720" y="204480"/>
                  <a:ext cx="468360" cy="36936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2138760" y="175680"/>
                  <a:ext cx="938160" cy="15048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2329200" y="231480"/>
                  <a:ext cx="20520" cy="154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2305440" y="253440"/>
                  <a:ext cx="29880" cy="1728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2403720" y="318600"/>
                  <a:ext cx="50760" cy="93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2491200" y="317160"/>
                  <a:ext cx="28440" cy="2340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257560" y="252000"/>
                  <a:ext cx="22320" cy="154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6164640" y="165240"/>
                <a:ext cx="1807920" cy="680400"/>
                <a:chOff x="6164640" y="165240"/>
                <a:chExt cx="1807920" cy="68040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7909200" y="761760"/>
                  <a:ext cx="20520" cy="2196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7666200" y="782640"/>
                  <a:ext cx="17640" cy="75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593120" y="792000"/>
                  <a:ext cx="44640" cy="252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547400" y="790560"/>
                  <a:ext cx="45720" cy="2484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297920" y="652320"/>
                  <a:ext cx="239760" cy="14724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444080" y="642960"/>
                  <a:ext cx="106200" cy="10764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7547400" y="691920"/>
                  <a:ext cx="74520" cy="205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7544160" y="717480"/>
                  <a:ext cx="50760" cy="5364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29840" y="687240"/>
                  <a:ext cx="25200" cy="3132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35960" y="736560"/>
                  <a:ext cx="32040" cy="1548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7669440" y="712800"/>
                  <a:ext cx="41400" cy="2664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7680600" y="725400"/>
                  <a:ext cx="193680" cy="9648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7848720" y="734760"/>
                  <a:ext cx="52560" cy="4104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7959960" y="6476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7812360" y="56808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7699680" y="63504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575840" y="614160"/>
                  <a:ext cx="54000" cy="4248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558200" y="523800"/>
                  <a:ext cx="63720" cy="91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574040" y="590400"/>
                  <a:ext cx="22320" cy="2664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529760" y="596880"/>
                  <a:ext cx="30240" cy="2664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871040" y="220680"/>
                  <a:ext cx="28440" cy="1548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091640" y="174600"/>
                  <a:ext cx="695160" cy="240840"/>
                </a:xfrm>
                <a:custGeom>
                  <a:avLst/>
                  <a:gdLst/>
                  <a:ahLst/>
                  <a:rect l="l" t="t" r="r" b="b"/>
                  <a:pathLst>
                    <a:path w="438" h="152">
                      <a:moveTo>
                        <a:pt x="73" y="1"/>
                      </a:moveTo>
                      <a:lnTo>
                        <a:pt x="438" y="0"/>
                      </a:lnTo>
                      <a:cubicBezTo>
                        <a:pt x="432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786800" y="165240"/>
                  <a:ext cx="32040" cy="8712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7767720" y="239760"/>
                  <a:ext cx="93960" cy="5364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7668000" y="290520"/>
                  <a:ext cx="126720" cy="1137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751880" y="32364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7040880" y="401400"/>
                  <a:ext cx="550800" cy="29988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7137720" y="608040"/>
                  <a:ext cx="30240" cy="45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560000" y="452160"/>
                  <a:ext cx="28440" cy="378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641000" y="433440"/>
                  <a:ext cx="14040" cy="1548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164640" y="284040"/>
                  <a:ext cx="687240" cy="56160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431040" y="495360"/>
                  <a:ext cx="258840" cy="3502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6886800" y="753840"/>
                  <a:ext cx="11160" cy="187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872400" y="573120"/>
                  <a:ext cx="14400" cy="108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6245640" y="350640"/>
                  <a:ext cx="39600" cy="1548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724800" y="204840"/>
                  <a:ext cx="468360" cy="36936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6405840" y="176040"/>
                  <a:ext cx="938160" cy="15048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6596280" y="231840"/>
                  <a:ext cx="20520" cy="154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572520" y="253800"/>
                  <a:ext cx="30240" cy="1728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6670800" y="318960"/>
                  <a:ext cx="50760" cy="93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6758280" y="317520"/>
                  <a:ext cx="28440" cy="2340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525000" y="252360"/>
                  <a:ext cx="21960" cy="154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" name=""/>
            <p:cNvGrpSpPr/>
            <p:nvPr/>
          </p:nvGrpSpPr>
          <p:grpSpPr>
            <a:xfrm>
              <a:off x="1266840" y="176040"/>
              <a:ext cx="7464240" cy="663840"/>
              <a:chOff x="1266840" y="176040"/>
              <a:chExt cx="7464240" cy="663840"/>
            </a:xfrm>
          </p:grpSpPr>
          <p:sp>
            <p:nvSpPr>
              <p:cNvPr id="110" name=""/>
              <p:cNvSpPr/>
              <p:nvPr/>
            </p:nvSpPr>
            <p:spPr>
              <a:xfrm>
                <a:off x="1266840" y="527040"/>
                <a:ext cx="7464240" cy="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62864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99080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35260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1476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7656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43836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80052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16232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2448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88628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24844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61024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97204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33420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69600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05816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41996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78176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14392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0572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1917720" y="173160"/>
              <a:ext cx="5864040" cy="671040"/>
              <a:chOff x="1917720" y="173160"/>
              <a:chExt cx="5864040" cy="671040"/>
            </a:xfrm>
          </p:grpSpPr>
          <p:sp>
            <p:nvSpPr>
              <p:cNvPr id="132" name=""/>
              <p:cNvSpPr/>
              <p:nvPr/>
            </p:nvSpPr>
            <p:spPr>
              <a:xfrm>
                <a:off x="4524120" y="174600"/>
                <a:ext cx="0" cy="2250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717800" y="527040"/>
                <a:ext cx="11124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886280" y="555480"/>
                <a:ext cx="0" cy="442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248080" y="714240"/>
                <a:ext cx="0" cy="12492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334200" y="352440"/>
                <a:ext cx="0" cy="28512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184800" y="527040"/>
                <a:ext cx="55260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696000" y="374400"/>
                <a:ext cx="0" cy="46656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6699240" y="177480"/>
                <a:ext cx="0" cy="7884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7057800" y="174240"/>
                <a:ext cx="0" cy="28836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7296120" y="527040"/>
                <a:ext cx="12384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7086240" y="527040"/>
                <a:ext cx="9828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7419960" y="174240"/>
                <a:ext cx="0" cy="42804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781760" y="745920"/>
                <a:ext cx="0" cy="5364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438360" y="180720"/>
                <a:ext cx="0" cy="982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076560" y="176040"/>
                <a:ext cx="0" cy="5346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3035160" y="527040"/>
                <a:ext cx="10800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822400" y="527040"/>
                <a:ext cx="9540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2504880" y="527040"/>
                <a:ext cx="13032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917720" y="527040"/>
                <a:ext cx="55224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349360" y="371520"/>
                <a:ext cx="0" cy="4726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990800" y="399960"/>
                <a:ext cx="0" cy="24732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2352600" y="173160"/>
                <a:ext cx="0" cy="424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714400" y="285480"/>
                <a:ext cx="0" cy="1522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714400" y="176040"/>
                <a:ext cx="0" cy="3456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777000" y="525240"/>
                <a:ext cx="12708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6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4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cec7aa"/>
                </a:gs>
                <a:gs pos="50000">
                  <a:srgbClr val="e9e6d9"/>
                </a:gs>
                <a:gs pos="100000">
                  <a:srgbClr val="cec7a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6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b6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FE04-B4BC-4501-A256-D1315914D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511200" y="24606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reatbear.org/brownbear.htm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allrecipes.com/Recipe/Russian-Tea-Cakes-I/Detail.aspx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darsie.net/talesofwonder/russia/babayaga.html" TargetMode="External"/><Relationship Id="rId7" Type="http://schemas.openxmlformats.org/officeDocument/2006/relationships/hyperlink" Target="http://www.darsie.net/talesofwonder/russia/babayaga.html" TargetMode="External"/><Relationship Id="rId8" Type="http://schemas.openxmlformats.org/officeDocument/2006/relationships/image" Target="../media/image2.png"/><Relationship Id="rId9" Type="http://schemas.openxmlformats.org/officeDocument/2006/relationships/hyperlink" Target="http://k12east.mrdonn.org/russiandolls.html" TargetMode="External"/><Relationship Id="rId10" Type="http://schemas.openxmlformats.org/officeDocument/2006/relationships/hyperlink" Target="http://k12east.mrdonn.org/russiandolls.html" TargetMode="External"/><Relationship Id="rId11" Type="http://schemas.openxmlformats.org/officeDocument/2006/relationships/hyperlink" Target="http://k12east.mrdonn.org/russiandolls.html" TargetMode="External"/><Relationship Id="rId12" Type="http://schemas.openxmlformats.org/officeDocument/2006/relationships/image" Target="../media/image2.png"/><Relationship Id="rId13" Type="http://schemas.openxmlformats.org/officeDocument/2006/relationships/hyperlink" Target="http://www.for-ballet-lovers-only.com/bolshoicorsaire2007.html" TargetMode="External"/><Relationship Id="rId14" Type="http://schemas.openxmlformats.org/officeDocument/2006/relationships/image" Target="../media/image2.png"/><Relationship Id="rId15" Type="http://schemas.openxmlformats.org/officeDocument/2006/relationships/hyperlink" Target="http://tostanoski.com/pysanky.html" TargetMode="External"/><Relationship Id="rId16" Type="http://schemas.openxmlformats.org/officeDocument/2006/relationships/hyperlink" Target="http://tostanoski.com/pysanky.html" TargetMode="External"/><Relationship Id="rId1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kidsculturecenter.com/russia/russ_edu.htm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library.thinkquest.org/CR0212302/russia.html" TargetMode="External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allrecipes.com/Search/Recipes.aspx?WithTerm=Russia" TargetMode="External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kidskonnect.com/Russia/RussiaHome.html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travelforkids.com/Funtodo/Russia/russia.htm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edupics.com/coloring-pages-pictures-book-russia-237.htm" TargetMode="External"/><Relationship Id="rId7" Type="http://schemas.openxmlformats.org/officeDocument/2006/relationships/image" Target="../media/image2.png"/><Relationship Id="rId8" Type="http://schemas.openxmlformats.org/officeDocument/2006/relationships/hyperlink" Target="http://www.kidsculturecenter.com/russia/russ_holiday.htm" TargetMode="External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hermitagemuseum.org/html_En/08/hm88_0.html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www.travelforkids.com/Funtodo/Russia/peterandpaulfortress.htm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travelforkids.com/Funtodo/Russia/pushkin.htm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pbase.com/hiker_photograph/catherines_palac" TargetMode="External"/><Relationship Id="rId5" Type="http://schemas.openxmlformats.org/officeDocument/2006/relationships/image" Target="../media/image20.jpeg"/><Relationship Id="rId6" Type="http://schemas.openxmlformats.org/officeDocument/2006/relationships/image" Target="../media/image2.png"/><Relationship Id="rId7" Type="http://schemas.openxmlformats.org/officeDocument/2006/relationships/hyperlink" Target="http://www.travelforkids.com/Funtodo/Russia/peterhof.htm" TargetMode="External"/><Relationship Id="rId8" Type="http://schemas.openxmlformats.org/officeDocument/2006/relationships/image" Target="../media/image2.png"/><Relationship Id="rId9" Type="http://schemas.openxmlformats.org/officeDocument/2006/relationships/hyperlink" Target="http://www.peterhof.org/english/pano/" TargetMode="External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1.jpeg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6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Let’s Learn About Russia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276720" y="5943240"/>
            <a:ext cx="35049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flags.net/RUSS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2666880" y="3505320"/>
            <a:ext cx="347832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Russia is famous for…</a:t>
            </a:r>
            <a:br>
              <a:rPr sz="4400"/>
            </a:br>
            <a:r>
              <a:rPr b="0" i="1" lang="en-US" sz="1400" spc="-1" strike="noStrike">
                <a:solidFill>
                  <a:srgbClr val="666633"/>
                </a:solidFill>
                <a:latin typeface="Times New Roman"/>
              </a:rPr>
              <a:t>(Click on each name for more information.)</a:t>
            </a:r>
            <a:endParaRPr b="0" i="1" lang="en-US" sz="1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6ab82"/>
                </a:solidFill>
                <a:uFillTx/>
                <a:latin typeface="Comic Sans MS"/>
                <a:hlinkClick r:id="rId2"/>
              </a:rPr>
              <a:t>The Brown B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6ab82"/>
                </a:solidFill>
                <a:uFillTx/>
                <a:latin typeface="Comic Sans MS"/>
                <a:hlinkClick r:id="rId4"/>
              </a:rPr>
              <a:t>Russian Teac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6ab82"/>
                </a:solidFill>
                <a:uFillTx/>
                <a:latin typeface="Comic Sans MS"/>
                <a:hlinkClick r:id="rId6"/>
              </a:rPr>
              <a:t>Baba </a:t>
            </a:r>
            <a:r>
              <a:rPr b="0" lang="en-US" sz="3200" spc="-1" strike="noStrike" u="sng">
                <a:solidFill>
                  <a:srgbClr val="b6ab82"/>
                </a:solidFill>
                <a:uFillTx/>
                <a:latin typeface="Comic Sans MS"/>
                <a:hlinkClick r:id="rId7"/>
              </a:rPr>
              <a:t>Ya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6ab82"/>
                </a:solidFill>
                <a:uFillTx/>
                <a:latin typeface="Comic Sans MS"/>
                <a:hlinkClick r:id="rId9"/>
              </a:rPr>
              <a:t>Russian Nesting</a:t>
            </a:r>
            <a:r>
              <a:rPr b="0" lang="en-US" sz="3200" spc="-1" strike="noStrike" u="sng">
                <a:solidFill>
                  <a:srgbClr val="b6ab82"/>
                </a:solidFill>
                <a:uFillTx/>
                <a:latin typeface="Comic Sans MS"/>
                <a:hlinkClick r:id="rId10"/>
              </a:rPr>
              <a:t> </a:t>
            </a:r>
            <a:r>
              <a:rPr b="0" lang="en-US" sz="3200" spc="-1" strike="noStrike" u="sng">
                <a:solidFill>
                  <a:srgbClr val="b6ab82"/>
                </a:solidFill>
                <a:uFillTx/>
                <a:latin typeface="Comic Sans MS"/>
                <a:hlinkClick r:id="rId11"/>
              </a:rPr>
              <a:t>Dol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6ab82"/>
                </a:solidFill>
                <a:uFillTx/>
                <a:latin typeface="Comic Sans MS"/>
                <a:hlinkClick r:id="rId13"/>
              </a:rPr>
              <a:t>Bal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6ab82"/>
                </a:solidFill>
                <a:uFillTx/>
                <a:latin typeface="Comic Sans MS"/>
                <a:hlinkClick r:id="rId15"/>
              </a:rPr>
              <a:t>Ukrainian </a:t>
            </a:r>
            <a:r>
              <a:rPr b="0" lang="en-US" sz="3200" spc="-1" strike="noStrike" u="sng">
                <a:solidFill>
                  <a:srgbClr val="b6ab82"/>
                </a:solidFill>
                <a:uFillTx/>
                <a:latin typeface="Comic Sans MS"/>
                <a:hlinkClick r:id="rId16"/>
              </a:rPr>
              <a:t>pysan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What Russian Kids Do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ussian children love ice skating, sledding and playing ice hockey in the winter and swimming and boating in the sum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out about schools in Russia at this website - </a:t>
            </a:r>
            <a:r>
              <a:rPr b="0" lang="en-US" sz="2400" spc="-1" strike="noStrike" u="sng">
                <a:solidFill>
                  <a:srgbClr val="b6ab82"/>
                </a:solidFill>
                <a:uFillTx/>
                <a:latin typeface="Comic Sans MS"/>
                <a:hlinkClick r:id="rId3"/>
              </a:rPr>
              <a:t>www.kidsculturecenter.com/russia/russ_edu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out about daily life in Russia at this site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 u="sng">
                <a:solidFill>
                  <a:srgbClr val="b6ab82"/>
                </a:solidFill>
                <a:uFillTx/>
                <a:latin typeface="Comic Sans MS"/>
                <a:hlinkClick r:id="rId5"/>
              </a:rPr>
              <a:t>http://library.thinkquest.org/CR0212302/russia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What Russians Like to Eat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120" y="4419360"/>
            <a:ext cx="8001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ww.world-recipes.info/russia-russian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b6ab82"/>
                </a:solidFill>
                <a:uFillTx/>
                <a:latin typeface="Comic Sans MS"/>
                <a:hlinkClick r:id="rId3"/>
              </a:rPr>
              <a:t>http://allrecipes.com/Search/Recipes.aspx?WithTerm=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6248520" y="1752480"/>
            <a:ext cx="1778040" cy="177804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5638680" y="3733920"/>
            <a:ext cx="320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http://allrecipes.com/Recipe/Borscht-I/Detail.asp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5"/>
          <a:stretch/>
        </p:blipFill>
        <p:spPr>
          <a:xfrm>
            <a:off x="990720" y="1752480"/>
            <a:ext cx="1778040" cy="1778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457200" y="3657600"/>
            <a:ext cx="3352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http://allrecipes.com/Recipe/Kartoshnik-with-Cheese-and-Onions/Detail.asp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09480" y="4343400"/>
            <a:ext cx="689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to these websites for some Russian reci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Some Famous Russians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uri Gagarin - first man i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khail Gorbachev - leader of the Soviet Union who made the country more free and democr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na Pavlova - world-famous baller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ter Tchaikovsky - a composer who wrote the music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The Nutcra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rgey Prokofiev - wrote the words and music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eter and the Wo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Learn More About Russia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Rus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b6ab82"/>
                </a:solidFill>
                <a:uFillTx/>
                <a:latin typeface="Comic Sans MS"/>
                <a:ea typeface="Arial"/>
                <a:hlinkClick r:id="rId2"/>
              </a:rPr>
              <a:t>www.kidskonnect.com/Russia/RussiaHome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Travel for Kids - Rus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b6ab82"/>
                </a:solidFill>
                <a:uFillTx/>
                <a:latin typeface="Comic Sans MS"/>
                <a:ea typeface="Arial"/>
                <a:hlinkClick r:id="rId4"/>
              </a:rPr>
              <a:t>www.travelforkids.com/Funtodo/Russia/russia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Coloring Pages – Rus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b6ab82"/>
                </a:solidFill>
                <a:uFillTx/>
                <a:latin typeface="Comic Sans MS"/>
                <a:ea typeface="Arial"/>
                <a:hlinkClick r:id="rId6"/>
              </a:rPr>
              <a:t>http://edupics.com/coloring-pages-pictures-book-russia-237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Kids Culture Center – Rus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b6ab82"/>
                </a:solidFill>
                <a:uFillTx/>
                <a:latin typeface="Comic Sans MS"/>
                <a:ea typeface="Arial"/>
                <a:hlinkClick r:id="rId8"/>
              </a:rPr>
              <a:t>http://www.kidsculturecenter.com/russia/russ_holiday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Rus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80"/>
                </a:solidFill>
                <a:uFillTx/>
                <a:latin typeface="Comic Sans MS"/>
                <a:ea typeface="Arial"/>
              </a:rPr>
              <a:t>http://www.oxfam.org.uk/coolplanet/kidsweb/wakeup/index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Russ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80"/>
                </a:solidFill>
                <a:uFillTx/>
                <a:latin typeface="Comic Sans MS"/>
                <a:ea typeface="Arial"/>
              </a:rPr>
              <a:t>http://library.thinkquest.org/TQ0312267/russia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Rus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80"/>
                </a:solidFill>
                <a:uFillTx/>
                <a:latin typeface="Comic Sans MS"/>
                <a:ea typeface="Arial"/>
              </a:rPr>
              <a:t>http://www.uen.org/utahlink/tours/tourFames.cgi?tour_id=80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More Good Websites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Time for Kids – Rus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80"/>
                </a:solidFill>
                <a:uFillTx/>
                <a:latin typeface="Comic Sans MS"/>
                <a:ea typeface="Arial"/>
              </a:rPr>
              <a:t>www.timeforkids.com/TFK/hh/goplaces/main/0,20344,595847,00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Kids from Rus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80"/>
                </a:solidFill>
                <a:uFillTx/>
                <a:latin typeface="Comic Sans MS"/>
                <a:ea typeface="Arial"/>
              </a:rPr>
              <a:t>http://www.factmonster.com/ipka/A0930073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Peace Corps Kids World – Rus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80"/>
                </a:solidFill>
                <a:uFillTx/>
                <a:latin typeface="Comic Sans MS"/>
                <a:ea typeface="Arial"/>
              </a:rPr>
              <a:t>www.peacecorps.gov/kids/world/europemed/russia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Books to Read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Discovering Cultures- Russi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 Sarah DeCapua. Marshall Cavendish Corporation. 200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A Ticket to Russi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 Tom Streissguth. Carolrhoda Books, Inc. 1997. Excellent for 3-5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Russia: A Portrait of the Country Through Its Festivals and Tradition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  Grolier. 199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Celebrating Birthdays in Russi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 Cheryl L. Enderlein. Capstone Press. 199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Russia ABC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 Ann Berge. Picture Window Books. 200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Where is Russia?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132160" cy="37958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flipV="1">
            <a:off x="1066680" y="3429000"/>
            <a:ext cx="495324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Map of Russia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6294240" cy="321624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363120" y="5638680"/>
            <a:ext cx="16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flags.net/RUSS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Facts About Russia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capital of Russia is Mosc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opulation of Russia is 149,476,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oney used is the ru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language spoken is Russi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Let’s visit some important cities in Russia.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123720" y="175212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sc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2684520" cy="35053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81480" y="1676520"/>
            <a:ext cx="3657600" cy="234144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3276720" y="3352680"/>
            <a:ext cx="2217600" cy="32004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5"/>
          <a:stretch/>
        </p:blipFill>
        <p:spPr>
          <a:xfrm>
            <a:off x="5867280" y="4343400"/>
            <a:ext cx="2971800" cy="20908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295280" y="6400800"/>
            <a:ext cx="16322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galenfrysinger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2742840" y="990360"/>
            <a:ext cx="3429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. Peters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3130560" cy="43434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5562720" y="1523880"/>
            <a:ext cx="3276360" cy="319752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4"/>
          <a:stretch/>
        </p:blipFill>
        <p:spPr>
          <a:xfrm>
            <a:off x="3733920" y="1600200"/>
            <a:ext cx="1787400" cy="25909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5"/>
          <a:stretch/>
        </p:blipFill>
        <p:spPr>
          <a:xfrm>
            <a:off x="3733920" y="4191120"/>
            <a:ext cx="1726920" cy="243828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441360" y="6469200"/>
            <a:ext cx="166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galenfrysinger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1904760" y="99036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rkutsk, in Sib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429000" cy="22543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5334120" y="1600200"/>
            <a:ext cx="3200400" cy="2224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1066680" y="3962520"/>
            <a:ext cx="3276720" cy="22701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5486400" y="3962520"/>
            <a:ext cx="3048120" cy="22366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886200" y="6324480"/>
            <a:ext cx="2057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galenfrysinger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Famous Sights in Russia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467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6ab82"/>
                </a:solidFill>
                <a:uFillTx/>
                <a:latin typeface="Comic Sans MS"/>
                <a:hlinkClick r:id="rId2"/>
              </a:rPr>
              <a:t>The Hermitage Museum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lick on the name to see a virtual vis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Krem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6ab82"/>
                </a:solidFill>
                <a:uFillTx/>
                <a:latin typeface="Comic Sans MS"/>
                <a:hlinkClick r:id="rId5"/>
              </a:rPr>
              <a:t>The Peter and Paul Fortres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lick on name to find out m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6"/>
          <a:stretch/>
        </p:blipFill>
        <p:spPr>
          <a:xfrm>
            <a:off x="2514600" y="4572000"/>
            <a:ext cx="2743200" cy="18176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124080" y="6324480"/>
            <a:ext cx="1657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russia.com/photos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Famous Palaces</a:t>
            </a:r>
            <a:br>
              <a:rPr sz="4400"/>
            </a:br>
            <a:r>
              <a:rPr b="0" i="1" lang="en-US" sz="1400" spc="-1" strike="noStrike">
                <a:solidFill>
                  <a:srgbClr val="666633"/>
                </a:solidFill>
                <a:latin typeface="Comic Sans MS"/>
              </a:rPr>
              <a:t>(click on the names to find out more)</a:t>
            </a:r>
            <a:endParaRPr b="0" i="1" lang="en-US" sz="1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3124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b6ab82"/>
                </a:solidFill>
                <a:uFillTx/>
                <a:latin typeface="Comic Sans MS"/>
                <a:hlinkClick r:id="rId2"/>
              </a:rPr>
              <a:t>Pushkin-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Catherine’s Pa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Go to this website to see more photos - </a:t>
            </a:r>
            <a:r>
              <a:rPr b="0" lang="en-US" sz="1400" spc="-1" strike="noStrike" u="sng">
                <a:solidFill>
                  <a:srgbClr val="b6ab82"/>
                </a:solidFill>
                <a:uFillTx/>
                <a:latin typeface="Comic Sans MS"/>
                <a:hlinkClick r:id="rId4"/>
              </a:rPr>
              <a:t>www.pbase.com/hiker_photograph/catherines_pal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5"/>
          <a:stretch/>
        </p:blipFill>
        <p:spPr>
          <a:xfrm>
            <a:off x="304920" y="3524400"/>
            <a:ext cx="3733560" cy="28000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609480" y="6324480"/>
            <a:ext cx="2895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pbase.com/hiker_photograph/image/4824697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952880" y="2133720"/>
            <a:ext cx="358164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b6ab82"/>
                </a:solidFill>
                <a:uFillTx/>
                <a:latin typeface="Comic Sans MS"/>
                <a:hlinkClick r:id="rId7"/>
              </a:rPr>
              <a:t>Peterhof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Go to this website to see interactive panoramas of the entire palace- </a:t>
            </a:r>
            <a:r>
              <a:rPr b="0" lang="en-US" sz="1400" spc="-1" strike="noStrike" u="sng">
                <a:solidFill>
                  <a:srgbClr val="b6ab82"/>
                </a:solidFill>
                <a:uFillTx/>
                <a:latin typeface="Comic Sans MS"/>
                <a:hlinkClick r:id="rId9"/>
              </a:rPr>
              <a:t>www.peterhof.org/english/pano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3"/>
          <a:stretch/>
        </p:blipFill>
        <p:spPr>
          <a:xfrm>
            <a:off x="4572000" y="3505320"/>
            <a:ext cx="3760920" cy="282096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5034600" y="6324480"/>
            <a:ext cx="328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00"/>
                </a:solidFill>
                <a:latin typeface="Comic Sans MS"/>
              </a:rPr>
              <a:t>www.euratlas.com/Atlas/ russia/peterhof_palac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01T00:00:00Z</dcterms:created>
  <dc:creator/>
  <dc:description/>
  <dc:language>en-US</dc:language>
  <cp:lastModifiedBy>Lynne Brosch</cp:lastModifiedBy>
  <cp:lastPrinted>1904-01-01T00:00:00Z</cp:lastPrinted>
  <dcterms:modified xsi:type="dcterms:W3CDTF">2007-07-30T18:21:44Z</dcterms:modified>
  <cp:revision>6</cp:revision>
  <dc:subject/>
  <dc:title>Let’s Learn About Russia</dc:title>
</cp:coreProperties>
</file>